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491-8E8E-4C2E-A763-50769C4E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151-5284-433E-9962-8E40F11E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E65-5FAE-4974-8BDA-459A091D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13C-EBAF-4B1E-A834-2CA0F18A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86FC-83A4-4E36-A17C-5DF675CA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C24C-2AD6-4F01-9A42-12898904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AAC6-D2D8-49B8-9DA2-F665F94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EDA2-6087-419F-9B3A-3CA1543D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3B54-A6EC-4811-B283-001CF619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90C6-9776-4F41-955B-0ED409B5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34E8-3989-49ED-8C9C-EA7A5DC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B9C-AE7A-4320-ACAF-B12783FC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3C99-ED5D-4FEC-B789-9EB0740D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B47D-E581-469B-80DA-9A763EB7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856C-5F6E-4663-A007-AC952FA2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223E-5C54-442F-97AB-0F81AD2D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A938-B50B-4795-BB2E-EA52A362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ABB-F5B7-4C5F-866C-7523367F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B41-92C9-4918-8BAA-B7B377EC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77D-CE68-451E-B05A-012F08D2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C58-820A-47B7-858F-41ECBCE8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BDF-6568-4D9D-92C0-D3C17D56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5F8-D632-42D0-80F9-9C968FCC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FED-416D-4911-8821-D6A0AE4E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9091-551D-4CCA-AF28-7FD90712CD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9EAF-D72D-4587-895D-3644061D52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301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_ Clase 7 IM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3 de mayo del 2012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Propósito # 64: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ómo repasamos para el Examen del Capitulo 4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Lee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Conversación: ¡A la playa!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p.13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¿Comprendes?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p.13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6720" y="304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: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cc00"/>
                </a:solidFill>
                <a:latin typeface="Verdana"/>
              </a:rPr>
              <a:t>I-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Copia y escribe en el PRETERI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Yo paso el fin de seman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Miramos el juego en la televis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los juegan voleibol en la play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Esquías en el agu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Tomo un refresc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Pago en la caj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No compras una crema bronceador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la deja su traje de baño en cas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96720" y="533520"/>
            <a:ext cx="7313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cc00"/>
                </a:solidFill>
                <a:latin typeface="Verdana"/>
              </a:rPr>
              <a:t>II-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Copia y remplaza </a:t>
            </a:r>
            <a:r>
              <a:rPr b="0" i="1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as palabras en subrayadas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con el pronombre de objeto direct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Mire </a:t>
            </a:r>
            <a:r>
              <a:rPr b="0" i="1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el juego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en la televis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dejo </a:t>
            </a:r>
            <a:r>
              <a:rPr b="0" i="1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su bañador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en cas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Donde compraste </a:t>
            </a:r>
            <a:r>
              <a:rPr b="0" i="1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os anteojos de sol</a:t>
            </a: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Quien tomo </a:t>
            </a:r>
            <a:r>
              <a:rPr b="0" i="1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as fotografías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Tienes </a:t>
            </a:r>
            <a:r>
              <a:rPr b="0" i="1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a toalla playera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mpre </a:t>
            </a: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los tickets </a:t>
            </a:r>
            <a:r>
              <a:rPr b="0" i="1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para el telesquí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los prepararon </a:t>
            </a:r>
            <a:r>
              <a:rPr b="0" i="1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la comida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en cas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95280" y="609120"/>
            <a:ext cx="7313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cc00"/>
                </a:solidFill>
                <a:latin typeface="Verdana"/>
              </a:rPr>
              <a:t>III-</a:t>
            </a:r>
            <a:r>
              <a:rPr b="0" lang="es-ES_tradnl" sz="29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mpleta con el PRETERITO del verbo I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Él _______ al merc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Yo ________ al supermerc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Nosotros ________ a la play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Nuestros amigos _________ a una estación de esquí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A dónde _________ tú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Ustedes _________ en carro,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¿no?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rea # 64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KBOOK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p. 66 &amp; 6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1:30:26Z</dcterms:created>
  <dc:creator>Helen Zumaeta</dc:creator>
  <dc:description/>
  <dc:language>en-US</dc:language>
  <cp:lastModifiedBy>Helen Zumaeta</cp:lastModifiedBy>
  <dcterms:modified xsi:type="dcterms:W3CDTF">2012-05-03T15:35:02Z</dcterms:modified>
  <cp:revision>3</cp:revision>
  <dc:subject/>
  <dc:title>Me llamo ___________ Clase 7 IM La fecha es el 3 de mayo del 2012</dc:title>
</cp:coreProperties>
</file>